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3592-CE68-4DF1-A751-E34737545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Russia today 4 in ever for people died ,and there I only one bir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880-420F-4847-86B5-9537BBF9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84EA-D775-4114-9341-537ED96A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ADE-BEC0-4246-90F4-2BA2F5E5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869-CA2A-4F04-B55C-CDDF5E0C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E6C-6AC4-4BC6-A6C5-0F58F446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12F0-3BB8-4358-AD88-4A29DA8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E4B-E79D-49C5-AFDC-7967179B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592-2FFA-420A-9977-93AA8016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9972-DAD0-435A-BBDF-195BD5BC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CC2-D7D0-4958-8DC9-F76906CB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FD4-81C2-4B1E-92C0-7C781AEB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C08-87B2-4D68-AC22-BCC468C4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CE0C-EB94-4DA3-ACDA-CE755C043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ct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2.xml"/><Relationship Id="rId1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6294240" cy="7543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4267080" cy="2423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25909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5909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00200" y="1981080"/>
            <a:ext cx="3276720" cy="2743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5400000">
            <a:off x="2507760" y="3130560"/>
            <a:ext cx="11178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05320" y="297180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200,000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death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47920" y="2590920"/>
            <a:ext cx="1371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50,000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birth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3:47:42Z</dcterms:created>
  <dc:creator>nw sd</dc:creator>
  <dc:description/>
  <dc:language>en-US</dc:language>
  <cp:lastModifiedBy>PA Department of Education</cp:lastModifiedBy>
  <dcterms:modified xsi:type="dcterms:W3CDTF">2009-02-04T18:11:09Z</dcterms:modified>
  <cp:revision>7</cp:revision>
  <dc:subject/>
  <dc:title>PowerPoint Presentation</dc:title>
</cp:coreProperties>
</file>